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95D-5D7B-4444-A9ED-5AAACCAC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EA7-D7CA-4B0A-AE36-B07CB068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EB85-AF9E-47D6-98CA-396693C9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9A2-E5B8-400E-875A-EDFC9935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80F-D214-4997-8647-DD62B148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B8D2-C363-418E-87BE-25E485E9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049-4407-4C7A-AB6A-8DBB3C5D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AE56-B1A7-4646-B821-55023525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C564-A9A4-4D5E-9670-2DDEECD6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1F8-2EFE-4327-AF36-A8C2C2B9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E7C4-C6D5-483C-A3AA-35FB441A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5EC-0E15-459C-9205-F64D5073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5724-31AD-49FA-B139-A26EB8A60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500040" y="285840"/>
            <a:ext cx="8429760" cy="14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мся рисовать  деревья  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379440" y="649080"/>
            <a:ext cx="8296200" cy="157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i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Ёл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исуем ёлку. Какую геометрическую фигуру напоминает н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ё силуэт? Помним, что вместо листьев у ёлки хвоинки и 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ит зелёной круглый год, поэтому, рисуя зимний пейза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крашиваем ёлку зелёным цве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rcRect l="0" t="0" r="0" b="51244"/>
          <a:stretch/>
        </p:blipFill>
        <p:spPr>
          <a:xfrm>
            <a:off x="1428840" y="2500200"/>
            <a:ext cx="7154640" cy="4062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0" t="47318" r="0" b="0"/>
          <a:stretch/>
        </p:blipFill>
        <p:spPr>
          <a:xfrm>
            <a:off x="428760" y="714240"/>
            <a:ext cx="8383320" cy="5143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00120" y="0"/>
            <a:ext cx="526752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571680" y="357120"/>
            <a:ext cx="72151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зентация сделана по книге Г.И. Шалаевой  «Учимся рисовать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формление: Елены Берюх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йт: «Школа АБВ»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hkola-abv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WordArt 1"/>
          <p:cNvSpPr txBox="1"/>
          <p:nvPr/>
        </p:nvSpPr>
        <p:spPr>
          <a:xfrm>
            <a:off x="2857680" y="5143680"/>
            <a:ext cx="329076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ец   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304560" y="364320"/>
            <a:ext cx="840744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общего у всех деревьев? Конечно, ствол и ветки. Ствол 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самая толстая часть дерева. Ветки расположены вд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вола и направлены вверх. Самая толстая часть ствола око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емли, а самая тонкая — на верхушке. Самые короткие ве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оложены ближе к верхушке, а самые длинные — ближе 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анию ство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rcRect l="0" t="0" r="0" b="49783"/>
          <a:stretch/>
        </p:blipFill>
        <p:spPr>
          <a:xfrm>
            <a:off x="1785960" y="2571840"/>
            <a:ext cx="6119640" cy="3983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071800" y="0"/>
            <a:ext cx="5048280" cy="654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117360" y="214200"/>
            <a:ext cx="8686800" cy="2571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D:\клипарты\еда раст\0_5541f_6916de6f_S.png"/>
          <p:cNvPicPr/>
          <p:nvPr/>
        </p:nvPicPr>
        <p:blipFill>
          <a:blip r:embed="rId2"/>
          <a:stretch/>
        </p:blipFill>
        <p:spPr>
          <a:xfrm>
            <a:off x="285840" y="3429000"/>
            <a:ext cx="2844720" cy="304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D:\клипарты\еда раст\0_5541d_91a520bd_S.png"/>
          <p:cNvPicPr/>
          <p:nvPr/>
        </p:nvPicPr>
        <p:blipFill>
          <a:blip r:embed="rId3"/>
          <a:stretch/>
        </p:blipFill>
        <p:spPr>
          <a:xfrm>
            <a:off x="6203880" y="3000240"/>
            <a:ext cx="2436840" cy="361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D:\клипарты\еда раст\0_55422_52941eb7_S.png"/>
          <p:cNvPicPr/>
          <p:nvPr/>
        </p:nvPicPr>
        <p:blipFill>
          <a:blip r:embed="rId4"/>
          <a:stretch/>
        </p:blipFill>
        <p:spPr>
          <a:xfrm>
            <a:off x="3571920" y="3071880"/>
            <a:ext cx="2214360" cy="3322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2571840" y="2214720"/>
            <a:ext cx="3857400" cy="41367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85840" y="363600"/>
            <a:ext cx="842940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Первый этап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ой дерева является его ствол. Поэто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ование дерева нужно начинать со ствола. Сверху ство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ньше, а внизу толще. Если мы рисуем кисточкой, то вер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вола нужно рисовать её кончиком, а низ — нажимая всей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и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380520" y="363600"/>
            <a:ext cx="804456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Второй этап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это изображение крупных, главных вето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ни рисуются так же, как ствол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рху тоненькие, а ближе 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волу — потолще. И направлены вверх тонким концом. П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м помним, что ветки н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воле находятся на разно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тоя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071880" y="2143080"/>
            <a:ext cx="2301840" cy="4479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489240" y="290880"/>
            <a:ext cx="819540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Третий этап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рисование мелких веток, то есть крон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ерева. Затем рисуем мелкие веточки, которые отходят 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их. Их очень много. Мелкие ветки рисуются одинаков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лщины — они тоненькие, но тоже тянутся вверх — к солнц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843280" y="1928880"/>
            <a:ext cx="3311280" cy="45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371160" y="228240"/>
            <a:ext cx="8359920" cy="309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i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ерё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какие деревья растут у нас? Самые распространённые 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ёза и ель. Нарисуем берёзу. Но сначала сравним вет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уба с ветками берёзы. Какая между ними разница? Посмотр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нимательно: в то время как ветки дуба растут больш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ью горизонтально и вертикально, то у берёзы ве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чень тонкие и расположены не вверх, они гнутся, свисаю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низ и делятся на ещё более тонкие веточки. При ветре он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качиваются то в одну, то в другую сторону. Такие ж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висающие ветки и у ив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0" t="0" r="0" b="51911"/>
          <a:stretch/>
        </p:blipFill>
        <p:spPr>
          <a:xfrm>
            <a:off x="1571760" y="3429000"/>
            <a:ext cx="6275160" cy="314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4432" t="47570" r="9639" b="0"/>
          <a:stretch/>
        </p:blipFill>
        <p:spPr>
          <a:xfrm>
            <a:off x="642960" y="1000080"/>
            <a:ext cx="7643880" cy="4857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13:59:45Z</dcterms:created>
  <dc:creator>Helen</dc:creator>
  <dc:description/>
  <dc:language>en-US</dc:language>
  <cp:lastModifiedBy>Boris</cp:lastModifiedBy>
  <dcterms:modified xsi:type="dcterms:W3CDTF">2012-09-23T05:34:29Z</dcterms:modified>
  <cp:revision>5</cp:revision>
  <dc:subject/>
  <dc:title>Слайд 1</dc:title>
</cp:coreProperties>
</file>